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3.jpeg" ContentType="image/jpeg"/>
  <Override PartName="/ppt/media/image42.jpeg" ContentType="image/jpeg"/>
  <Override PartName="/ppt/media/image41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6.jpeg" ContentType="image/jpeg"/>
  <Override PartName="/ppt/media/image31.jpeg" ContentType="image/jpeg"/>
  <Override PartName="/ppt/media/image47.wmf" ContentType="image/x-wmf"/>
  <Override PartName="/ppt/media/image51.png" ContentType="image/png"/>
  <Override PartName="/ppt/media/image12.wmf" ContentType="image/x-wmf"/>
  <Override PartName="/ppt/media/image36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6196-2812-444B-9EE8-FF169C207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C60-BDE8-4747-A8D7-778FF946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8C0-443C-4772-816B-5422677D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E14-51F2-46EB-A92E-876241C5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871-EFA3-4362-B364-F709E95E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31E-DD97-4085-A5CE-81752D7A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1E0-B44C-4C56-B8CF-C4094098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323-571A-44AC-AAFB-B2E66222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29B-FB2C-44FB-A81F-3151123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8A1-74AB-42CC-BF66-A24DB8EF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798-6E3A-4C74-A24F-BA237C3E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0CA-5547-433E-A511-90BB67D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2DF-087D-4923-80D6-B9EABF4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78E4-A6E6-4E24-96CC-00D009F15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08B8-C9B1-47C7-AD8D-042861867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25p875_f07"/>
          <p:cNvPicPr/>
          <p:nvPr/>
        </p:nvPicPr>
        <p:blipFill>
          <a:blip r:embed="rId1"/>
          <a:stretch/>
        </p:blipFill>
        <p:spPr>
          <a:xfrm>
            <a:off x="228600" y="4267080"/>
            <a:ext cx="872640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457200" y="10666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a thin soap film rests on a flat glas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pper surface of the soap film is similar to the beam splitter in the interf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reflects part of the incoming light and allows the rest to be transmitted into the soap layer after refraction at the air-soap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2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ransmitted ray is partially reflected at the bottom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wo outgoing rays meet the conditions for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ravel through differen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combine when they leave the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coherent because they originated from the same source and initial 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3809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the speed of the wave inside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505320" y="4419720"/>
          <a:ext cx="183024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419720"/>
                    <a:ext cx="1830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Content Placeholder 2"/>
          <p:cNvSpPr/>
          <p:nvPr/>
        </p:nvSpPr>
        <p:spPr>
          <a:xfrm>
            <a:off x="457200" y="51814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length changes as the light wave travels from a vacuum into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wavelength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6553080" y="6049800"/>
          <a:ext cx="10940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49800"/>
                    <a:ext cx="10940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s reflected by a thin film undergo a phas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cycles traveled by the ray inside the film completely determines the nature of th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is an integer, there is con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 is a half-integer, there is de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384120" y="4038480"/>
          <a:ext cx="5025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038480"/>
                    <a:ext cx="5025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Content Placeholder 2"/>
          <p:cNvSpPr/>
          <p:nvPr/>
        </p:nvSpPr>
        <p:spPr>
          <a:xfrm>
            <a:off x="304920" y="6172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if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i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il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(substance below the film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13056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1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oap bubble is surrounded b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phase change at the top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phase change at the bottom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only one wave undergoes a phase change, the interference condition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509760" y="3352680"/>
          <a:ext cx="5357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3352680"/>
                    <a:ext cx="5357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965320" cy="22957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76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3 Color and Thickness of a Soap Fi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bubble formed from a thin, soapy film that looks blue when viewed at normal incidence. Estimate the thickness of the film. Assume its index of refr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35 and blue light has a waveleng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0 nm. Also assume the film is so thin that thinner films are not able to give constructive inter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4381560"/>
            <a:ext cx="21063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316480" y="4370400"/>
            <a:ext cx="3141720" cy="81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676520" y="5559480"/>
            <a:ext cx="6365880" cy="76500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>
            <a:off x="3200040" y="4723920"/>
            <a:ext cx="1600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45720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here is destructive and we consider m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3"/>
          <p:cNvSpPr/>
          <p:nvPr/>
        </p:nvSpPr>
        <p:spPr>
          <a:xfrm>
            <a:off x="304920" y="914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a slit or opening and then illuminates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the width of the slit becomes closer to the wavelength of the light, the intensity pattern on the screen and additional maxima become noti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p881_f15"/>
          <p:cNvPicPr/>
          <p:nvPr/>
        </p:nvPicPr>
        <p:blipFill>
          <a:blip r:embed="rId1"/>
          <a:stretch/>
        </p:blipFill>
        <p:spPr>
          <a:xfrm>
            <a:off x="1944720" y="3505320"/>
            <a:ext cx="556884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5p882_f16"/>
          <p:cNvPicPr/>
          <p:nvPr/>
        </p:nvPicPr>
        <p:blipFill>
          <a:blip r:embed="rId1"/>
          <a:stretch/>
        </p:blipFill>
        <p:spPr>
          <a:xfrm>
            <a:off x="6394320" y="76320"/>
            <a:ext cx="267336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45720"/>
            <a:ext cx="5867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ter wave example of 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ypes of waves undergo single-slit diff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the bending or spreading of a wave when it passes through an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36576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ful to draw the wave fronts and rays for the incident and diffracting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uygen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on a wave front can be thought of as new sources of spheric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5p882_f17"/>
          <p:cNvPicPr/>
          <p:nvPr/>
        </p:nvPicPr>
        <p:blipFill>
          <a:blip r:embed="rId2"/>
          <a:stretch/>
        </p:blipFill>
        <p:spPr>
          <a:xfrm>
            <a:off x="6324480" y="3657600"/>
            <a:ext cx="2738520" cy="314316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two very narrow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two slits are both very narrow, each slit acts as a simple point source of new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utgoing waves from each slit are like simple spherical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double slit experiment showed conclusively that light is a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 was first carried out by Thomas Young around 1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5p883_f18"/>
          <p:cNvPicPr/>
          <p:nvPr/>
        </p:nvPicPr>
        <p:blipFill>
          <a:blip r:embed="rId1"/>
          <a:stretch/>
        </p:blipFill>
        <p:spPr>
          <a:xfrm>
            <a:off x="6372360" y="152280"/>
            <a:ext cx="2619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6840" y="759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ng’s Double-Slit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incident onto two slits and after passing through them strikes a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intensity on the screen shows an interference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3017880"/>
            <a:ext cx="57913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s are separated by a distance d, then the difference in length between the paths of the two ray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5p883_f19"/>
          <p:cNvPicPr/>
          <p:nvPr/>
        </p:nvPicPr>
        <p:blipFill>
          <a:blip r:embed="rId2"/>
          <a:stretch/>
        </p:blipFill>
        <p:spPr>
          <a:xfrm>
            <a:off x="6324480" y="2819520"/>
            <a:ext cx="268632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bright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dark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not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eld of wave optics studies the properties of light that depend on its wave n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ly light was thought to be a particle and that model successfully explained the phenomena discussed in geometric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well’s theory of electromagnetism convinced physicists that light was a wa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iscussing image characteristics over distances much greater than the wavelength, geometric optics is extremely accu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ealing with sizes comparable to or smaller than the wavelength, wave optics is requi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759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nsity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ng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ries as you move along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bright fringe corresponds to a different value of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values of m indicate that the path to those points on the screen from the lower slit is shorter than the path from the upper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5p883_f20"/>
          <p:cNvPicPr/>
          <p:nvPr/>
        </p:nvPicPr>
        <p:blipFill>
          <a:blip r:embed="rId1"/>
          <a:stretch/>
        </p:blipFill>
        <p:spPr>
          <a:xfrm>
            <a:off x="5475240" y="76320"/>
            <a:ext cx="366876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m =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the angle is very small,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0 and m =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a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2971800" y="4648320"/>
          <a:ext cx="128268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648320"/>
                    <a:ext cx="12826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1"/>
          <p:cNvSpPr/>
          <p:nvPr/>
        </p:nvSpPr>
        <p:spPr>
          <a:xfrm>
            <a:off x="5486400" y="2514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 and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adjacent bright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mall angles, 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the approxim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9810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with Monochromatic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with a single frequency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ochr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one 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sources with a variety of wavelengths are generally not useful for double-slit interferenc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 and dark fringes may overlap or the total pattern may b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hed ou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um of bright and dark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ght or dark fringes will b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76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5 Measuring the Wavelength of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’s double-slit experiment shows that light is indeed a wave and also gives a way to measure the wavelength. Suppose the double-slit experiment in Figure 25.20 is carried out with a slit sp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0 mm and the screen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m. If the bright fringes nearest the center of the screen are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m, what is the wavelength of the l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772812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p883_f20"/>
          <p:cNvPicPr/>
          <p:nvPr/>
        </p:nvPicPr>
        <p:blipFill>
          <a:blip r:embed="rId3"/>
          <a:stretch/>
        </p:blipFill>
        <p:spPr>
          <a:xfrm>
            <a:off x="5410080" y="3662280"/>
            <a:ext cx="3733920" cy="23274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Slit Diffraction: Interfer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9903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ts may be narrow enough to exhibit diffraction but not so narrow that they can be treated as a single point source of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ingle slit has a wid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diffracted as it passes through the slit and then propagates to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25p886_f21a"/>
          <p:cNvPicPr/>
          <p:nvPr/>
        </p:nvPicPr>
        <p:blipFill>
          <a:blip r:embed="rId1"/>
          <a:stretch/>
        </p:blipFill>
        <p:spPr>
          <a:xfrm>
            <a:off x="6854760" y="838080"/>
            <a:ext cx="2289240" cy="27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5p886_f21b"/>
          <p:cNvPicPr/>
          <p:nvPr/>
        </p:nvPicPr>
        <p:blipFill>
          <a:blip r:embed="rId2"/>
          <a:stretch/>
        </p:blipFill>
        <p:spPr>
          <a:xfrm>
            <a:off x="7553160" y="3733920"/>
            <a:ext cx="159084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Content Placeholder 2"/>
          <p:cNvSpPr/>
          <p:nvPr/>
        </p:nvSpPr>
        <p:spPr>
          <a:xfrm>
            <a:off x="304920" y="4267080"/>
            <a:ext cx="71625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key to the calculation of where the fringes occur is Huyge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across the slit act as wa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different waves interfere at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alysis, divide the slit into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7200" y="46080"/>
            <a:ext cx="5181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 will produce a dark f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5p886_f21c"/>
          <p:cNvPicPr/>
          <p:nvPr/>
        </p:nvPicPr>
        <p:blipFill>
          <a:blip r:embed="rId1"/>
          <a:stretch/>
        </p:blipFill>
        <p:spPr>
          <a:xfrm>
            <a:off x="5715000" y="4572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962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Dark Fr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for destructive interference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±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1, 2, 3, 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gative sign will correspond to a fringe below the center of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2"/>
          <p:cNvSpPr/>
          <p:nvPr/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Bright Fr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simple formula for the angles at which the bright fringes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nsity on the screen can be calculated by adding up all the Huygens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central bright fri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called the centr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about 20 times more intense than the bright fring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slit is much wider than the wavelength, the light beam essentially passes straight through the slit with almost no effect from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8377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rrangement of many slits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lits are na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ne produces a single outgoing w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creen is very far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25p889_f24"/>
          <p:cNvPicPr/>
          <p:nvPr/>
        </p:nvPicPr>
        <p:blipFill>
          <a:blip r:embed="rId1"/>
          <a:stretch/>
        </p:blipFill>
        <p:spPr>
          <a:xfrm>
            <a:off x="6095880" y="938160"/>
            <a:ext cx="2930760" cy="28767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38098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-to-slit spac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n the path length difference for the rays from two adjacent sli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qual to an integral number of wavelengths, constructive interferenc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bright fringe, d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2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dition for bright fringes from a diffraction grating is identical to the condition for constructive interference from a double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verall intensity pattern depends on the number of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rger the number of slits, the narrower th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25p889_f25"/>
          <p:cNvPicPr/>
          <p:nvPr/>
        </p:nvPicPr>
        <p:blipFill>
          <a:blip r:embed="rId1"/>
          <a:stretch/>
        </p:blipFill>
        <p:spPr>
          <a:xfrm>
            <a:off x="5595840" y="76320"/>
            <a:ext cx="3471840" cy="37400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75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6 Diffraction of Light by a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raction experiment is carried out with a grating. Using light from a red las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30 nm), the diffraction fringes are separ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 m on a screen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0 m from the grating. Find the spacing d between slits in the g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469880" cy="72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98764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2895840" cy="4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133720" y="5562720"/>
            <a:ext cx="2514600" cy="42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766800" y="6019920"/>
            <a:ext cx="7539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828880" cy="26668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2640"/>
            <a:ext cx="5791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 of diameter D, the angle between the central bright maximum and the first minimu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rcular geometry leads to the additional numerical factor of 1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25p892_f30"/>
          <p:cNvPicPr/>
          <p:nvPr/>
        </p:nvPicPr>
        <p:blipFill>
          <a:blip r:embed="rId1"/>
          <a:stretch/>
        </p:blipFill>
        <p:spPr>
          <a:xfrm>
            <a:off x="6354720" y="1042920"/>
            <a:ext cx="27129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527200" y="3076560"/>
          <a:ext cx="143532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3076560"/>
                    <a:ext cx="1435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22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property unique to waves is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of sound waves can be produced by two spe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25p869_f01a"/>
          <p:cNvPicPr/>
          <p:nvPr/>
        </p:nvPicPr>
        <p:blipFill>
          <a:blip r:embed="rId1"/>
          <a:srcRect l="0" t="-22" r="0" b="23983"/>
          <a:stretch/>
        </p:blipFill>
        <p:spPr>
          <a:xfrm>
            <a:off x="7021440" y="763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380880" y="23623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wave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ir maxima occur at the same time at a given point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otal wave displacement at the listen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location is the sum of the displacements of the two individu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wo waves are in phase, the sum of their displacements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5p869_f01b"/>
          <p:cNvPicPr/>
          <p:nvPr/>
        </p:nvPicPr>
        <p:blipFill>
          <a:blip r:embed="rId2"/>
          <a:stretch/>
        </p:blipFill>
        <p:spPr>
          <a:xfrm>
            <a:off x="7259760" y="2819520"/>
            <a:ext cx="188424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2"/>
          <p:cNvSpPr/>
          <p:nvPr/>
        </p:nvSpPr>
        <p:spPr>
          <a:xfrm>
            <a:off x="457200" y="763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two sources are sufficiently far apart, they can be seen as two separate diffraction spot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ources are too close together, their diffraction spots will overlap so much that they appear as a single spo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25p893_f32(a)"/>
          <p:cNvPicPr/>
          <p:nvPr/>
        </p:nvPicPr>
        <p:blipFill>
          <a:blip r:embed="rId1"/>
          <a:stretch/>
        </p:blipFill>
        <p:spPr>
          <a:xfrm>
            <a:off x="1108080" y="3016080"/>
            <a:ext cx="1863720" cy="176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25p893_f32(b)"/>
          <p:cNvPicPr/>
          <p:nvPr/>
        </p:nvPicPr>
        <p:blipFill>
          <a:blip r:embed="rId2"/>
          <a:stretch/>
        </p:blipFill>
        <p:spPr>
          <a:xfrm>
            <a:off x="3905280" y="3016080"/>
            <a:ext cx="1809720" cy="177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5p893_f32(c)"/>
          <p:cNvPicPr/>
          <p:nvPr/>
        </p:nvPicPr>
        <p:blipFill>
          <a:blip r:embed="rId3"/>
          <a:stretch/>
        </p:blipFill>
        <p:spPr>
          <a:xfrm>
            <a:off x="6477120" y="3036960"/>
            <a:ext cx="1809720" cy="1763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762120" y="4724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                                              B   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sources will be resolved as two distinct sources of light if their angular separation is greater than the angular spread of a single diffraction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sult is call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, the Rayleigh criterion for the angular resolution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objects will be resolved when viewed through an opening of diameter D if the light rays from the two objects are separated by an angle at least as large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809880" y="1828800"/>
          <a:ext cx="1605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1605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5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7 Rayleigh Criterion for a Marks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fle used for target shooting has a small telescope so that the shooter can accurately aim at his target. Suppose the telescope has a di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cm and the shooter is looking at two small object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 m away. If the shooter is just barely able to tell that there are two objects (and not one), how far apart are the objects? Assume red light wi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00 n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505320" cy="12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66880" y="4146480"/>
            <a:ext cx="1524240" cy="71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95280" y="5160960"/>
            <a:ext cx="1684440" cy="6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038480" y="5140440"/>
            <a:ext cx="255600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990720" y="5979960"/>
            <a:ext cx="6943680" cy="68760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10"/>
          <p:cNvCxnSpPr/>
          <p:nvPr/>
        </p:nvCxnSpPr>
        <p:spPr>
          <a:xfrm>
            <a:off x="3276360" y="5486040"/>
            <a:ext cx="6102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we see from the sky is sunlight scattered by the molecules in the 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olecules are much smaller than the wavelength of visibl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catter blue light more strongly than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gives the atmosphere its blue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25p897_f39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817720"/>
          </a:xfrm>
          <a:prstGeom prst="rect">
            <a:avLst/>
          </a:prstGeom>
          <a:ln w="0">
            <a:noFill/>
          </a:ln>
        </p:spPr>
      </p:pic>
      <p:sp>
        <p:nvSpPr>
          <p:cNvPr id="208" name="Content Placeholder 2"/>
          <p:cNvSpPr/>
          <p:nvPr/>
        </p:nvSpPr>
        <p:spPr>
          <a:xfrm>
            <a:off x="457200" y="3352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u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violet scatters more than blue, the sky appears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emits more strongly in blue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ur eyes are more sensitive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ky appears blue even though the violet light is scatter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 near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more molecules to scatter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 blue is scattered away, leaving the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380880" y="1522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aximum of one wave can coincide with the minimum of the other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wav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is destructive when the waves are out of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waves are 180° out of phase, the sum of the displacements of the two waves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p869_f01c"/>
          <p:cNvPicPr/>
          <p:nvPr/>
        </p:nvPicPr>
        <p:blipFill>
          <a:blip r:embed="rId1"/>
          <a:stretch/>
        </p:blipFill>
        <p:spPr>
          <a:xfrm>
            <a:off x="6080040" y="228600"/>
            <a:ext cx="298764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nditions for interfer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ves can interfere if all the following conditions are 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wo or more interfering waves travel through different regions of space over at least part of their propagation from source to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aves are brought together at a common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25p872_f03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368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990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ichelson interferometer is based on the interference of reflecte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flecting mirrors are mounted at right 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hird mirror is partially r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eam spli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cident light hits the beam splitter and is divided into two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reflect from the mirrors at the top and right and recombine at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522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being reflected again from the beam splitter, portions of the waves combine at th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nly difference between the two waves is that they travel different distances between their respective mirrors and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th length diff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00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path length difference is related to the wavelength of the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n integer, the two waves are in phase and produce con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 half-integer the waves will produce de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25p873_f04"/>
          <p:cNvPicPr/>
          <p:nvPr/>
        </p:nvPicPr>
        <p:blipFill>
          <a:blip r:embed="rId1"/>
          <a:stretch/>
        </p:blipFill>
        <p:spPr>
          <a:xfrm>
            <a:off x="5867280" y="3276720"/>
            <a:ext cx="3200400" cy="31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2590920" y="4267080"/>
          <a:ext cx="101916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267080"/>
                    <a:ext cx="10191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52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 is an integer in both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constructive, the light intensity at the detector is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right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destructive, the light intensity at the detector is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dark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5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ium–neon (He–Ne) laser emits light with a wavelength of approximately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e–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33 nm. Suppose this light source is used in a Michelson interferometer and one of the mirrors is moved a dista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exactly N = 1,000,000 bright fringes are counted, calcul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348156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17208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818400" y="304920"/>
            <a:ext cx="2249280" cy="25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04920" y="3657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rror moves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tance traveled by the light changes b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light travels back and forth between the beam splitter and the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037760" y="579132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×1000000×63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.31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/>
          <p:nvPr/>
        </p:nvCxnSpPr>
        <p:spPr>
          <a:xfrm>
            <a:off x="2895480" y="6019560"/>
            <a:ext cx="991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Rectangle 15"/>
          <p:cNvSpPr/>
          <p:nvPr/>
        </p:nvSpPr>
        <p:spPr>
          <a:xfrm>
            <a:off x="424080" y="5029200"/>
            <a:ext cx="382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=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2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4419360" y="5257440"/>
            <a:ext cx="6865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sw1979</dc:creator>
  <dc:description/>
  <dc:language>en-US</dc:language>
  <cp:lastModifiedBy>LEGION</cp:lastModifiedBy>
  <dcterms:modified xsi:type="dcterms:W3CDTF">2018-04-03T08:34:42Z</dcterms:modified>
  <cp:revision>350</cp:revision>
  <dc:subject/>
  <dc:title>Physics 1404, Section 1 Chapter 21:  Magnetic Induction</dc:title>
</cp:coreProperties>
</file>